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0B52-998B-4464-87EE-80C7175DD7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3F0-F216-4E9F-A3F0-D42A8B2A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5D2-5414-4E76-8379-5F5CA9A6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879-5D96-4DA9-A4E9-975BA429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4A3-57F2-426A-81B6-858A2068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78D3-48C5-4446-A8CF-96A28DEE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17B-E024-46F6-9262-BECFB676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E34-1E18-472C-9D5C-C14DDB5E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048-214F-4BC2-B961-CD23ECC7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518-5EFD-4925-8D57-D2DC0B9E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671-2B9C-4A2C-BBF8-7A243C07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52B-F49F-466F-8DD4-CBC0CDB0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599-DE1B-436D-AE74-4457D1FC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47ED-9269-45BF-ABD4-973F563F5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 </dc:creator>
  <dc:description/>
  <dc:language>en-US</dc:language>
  <cp:lastModifiedBy>LEGION</cp:lastModifiedBy>
  <dcterms:modified xsi:type="dcterms:W3CDTF">2016-12-07T08:32:40Z</dcterms:modified>
  <cp:revision>7</cp:revision>
  <dc:subject/>
  <dc:title>The components of the blood </dc:title>
</cp:coreProperties>
</file>